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FD7-4530-4009-AEB0-237D2D1B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4FF-C861-4845-9015-4F5C13F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248-031C-4BD6-A68C-21DE45C9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48C-AA41-4025-82C7-DE0769D9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390-1B58-4597-BD3E-9CC0EAAB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622-C2E0-47D2-A124-9F594A5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4E2-AEA7-4376-A73D-99F7133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C9B-A806-4DDD-8A46-330E75DC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4EB-1EE9-40B6-B483-1646B57E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5E1-41A6-4F17-87AE-35B40AD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2F8-5135-4825-A447-BACA14D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568-4E2A-46A6-8232-56B5BBB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4F25-E9F4-4DB5-A184-E3987A69C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4"/>
          <p:cNvSpPr/>
          <p:nvPr/>
        </p:nvSpPr>
        <p:spPr>
          <a:xfrm>
            <a:off x="3714840" y="1214280"/>
            <a:ext cx="4857840" cy="1571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omic Sans MS"/>
              </a:rPr>
              <a:t>Кто же такой ТАНГРАМ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012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Подготовили ученики 6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 rot="18683400">
            <a:off x="722160" y="2007720"/>
            <a:ext cx="1428840" cy="1428840"/>
          </a:xfrm>
          <a:prstGeom prst="rect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араллелограмм 5"/>
          <p:cNvSpPr/>
          <p:nvPr/>
        </p:nvSpPr>
        <p:spPr>
          <a:xfrm>
            <a:off x="1714680" y="3643200"/>
            <a:ext cx="2714400" cy="1143000"/>
          </a:xfrm>
          <a:prstGeom prst="parallelogram">
            <a:avLst>
              <a:gd name="adj" fmla="val 25001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6"/>
          <p:cNvSpPr/>
          <p:nvPr/>
        </p:nvSpPr>
        <p:spPr>
          <a:xfrm rot="9948600">
            <a:off x="4679640" y="3738240"/>
            <a:ext cx="3857400" cy="13572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Цель нашего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проследить историю развития игры Тангр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изучить сферу применения «Танграм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найти способ, позволяющий с наибольшей выразительностью или юмором изобразить силуэты животных, людей или каких-либо узнаваем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араллелограмм 6"/>
          <p:cNvSpPr/>
          <p:nvPr/>
        </p:nvSpPr>
        <p:spPr>
          <a:xfrm>
            <a:off x="4500720" y="1785960"/>
            <a:ext cx="3571560" cy="1643040"/>
          </a:xfrm>
          <a:prstGeom prst="parallelogram">
            <a:avLst>
              <a:gd name="adj" fmla="val 24998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357720" y="3857760"/>
            <a:ext cx="3000240" cy="278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4"/>
          <p:cNvSpPr/>
          <p:nvPr/>
        </p:nvSpPr>
        <p:spPr>
          <a:xfrm rot="5400000">
            <a:off x="-1540080" y="1539720"/>
            <a:ext cx="6642000" cy="3562200"/>
          </a:xfrm>
          <a:prstGeom prst="triangle">
            <a:avLst>
              <a:gd name="adj" fmla="val 44579"/>
            </a:avLst>
          </a:prstGeom>
          <a:solidFill>
            <a:srgbClr val="fc8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omic Sans MS"/>
              </a:rPr>
              <a:t>О названии Тангр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35684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В Китае название Танграм неизвестно, а игра имеет название Ши-Чао-Тю (семь хитроумных фигур)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В Оксфордском словаре английского языка — название Танграм появляется с ссылкой на авторитетного Генри Э.Дьюдени, его версию принял составитель словаря Д.Мюррей. Он обнаружил, что слово танграм впервые встречается в словаре Вебстера издания 1864 г. По мнению в Мюррея, само слово танграм было придумано в середине прошлого столетия неким американцем, образовавшим неологизм из слова Тан, что означает на кантонском диалекте китайский, и распространенного суффикса -грам (как в словах анаграмма или криптограмма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ЮЛЕНЬКА\дрУЧЕБА\4 КУРС\ИИКТО для проекта\Новая папка\800px-Tangram-set-blueplas.jpg"/>
          <p:cNvPicPr/>
          <p:nvPr/>
        </p:nvPicPr>
        <p:blipFill>
          <a:blip r:embed="rId1"/>
          <a:stretch/>
        </p:blipFill>
        <p:spPr>
          <a:xfrm>
            <a:off x="285840" y="3929040"/>
            <a:ext cx="4743360" cy="292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42840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ная теория происхождения слова танграм была выдвинута Питером Ван Ноутом в предисловии к новому изданию книги Ллойда: китайские семьи, живущие на лодках, называются танка, тан по-китайски означает — падшая женщина. Американские моряки, покупавшие головоломку у девушек — танка, могли назвать ее танграмом — головоломкой доступных девушек. В книге «Китайский философский и математический транграм» (1817 г.) слово транграм — трактуется, как старинное английское слово — обозначающие игрушка головолом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8273" t="22444" r="58843" b="47054"/>
          <a:stretch/>
        </p:blipFill>
        <p:spPr>
          <a:xfrm rot="1076400">
            <a:off x="3308040" y="274608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менение ТАНГР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7855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фера применения «Танграма» гораздо шире, чем просто игра. Такого рода подход, как известно, подталкивает к нетрадиционным мыслям и решениям. К тому же, одно — вовсе не исключает другог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частей головоломки можно составлять изученные фигуры и вычислять их площ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ЮЛЕНЬКА\дрУЧЕБА\4 КУРС\ИИКТО для проекта\Новая папка\pr_038.gif"/>
          <p:cNvPicPr/>
          <p:nvPr/>
        </p:nvPicPr>
        <p:blipFill>
          <a:blip r:embed="rId1"/>
          <a:stretch/>
        </p:blipFill>
        <p:spPr>
          <a:xfrm>
            <a:off x="6572160" y="3857760"/>
            <a:ext cx="2214720" cy="300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428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Существуют различные способы, позволяющие изображать силуэты животных, людей и других предметов.  Для этого возьмем картон в виде квадрата 8</a:t>
            </a:r>
            <a:r>
              <a:rPr b="0" lang="en-US" sz="3200" spc="-1" strike="noStrike">
                <a:solidFill>
                  <a:srgbClr val="1f497d"/>
                </a:solidFill>
                <a:latin typeface="Comic Sans MS"/>
              </a:rPr>
              <a:t>x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8 см, данный квадрат разрежем на 7 частей. Используя все 7 частей и не допуская наложения одной части на другую, составим следующие фиг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rcRect l="18273" t="22444" r="58843" b="47054"/>
          <a:stretch/>
        </p:blipFill>
        <p:spPr>
          <a:xfrm>
            <a:off x="1000080" y="4370400"/>
            <a:ext cx="2835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ЮЛЕНЬКА\дрУЧЕБА\4 КУРС\ИИКТО для проекта\Новая папка\tangram.png"/>
          <p:cNvPicPr/>
          <p:nvPr/>
        </p:nvPicPr>
        <p:blipFill>
          <a:blip r:embed="rId1"/>
          <a:stretch/>
        </p:blipFill>
        <p:spPr>
          <a:xfrm rot="21102000">
            <a:off x="287280" y="178920"/>
            <a:ext cx="2786040" cy="417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ЮЛЕНЬКА\дрУЧЕБА\4 КУРС\ИИКТО для проекта\Новая папка\TangramCandle.gif"/>
          <p:cNvPicPr/>
          <p:nvPr/>
        </p:nvPicPr>
        <p:blipFill>
          <a:blip r:embed="rId2"/>
          <a:stretch/>
        </p:blipFill>
        <p:spPr>
          <a:xfrm rot="466200">
            <a:off x="6410160" y="434880"/>
            <a:ext cx="1878120" cy="33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ЮЛЕНЬКА\дрУЧЕБА\4 КУРС\ИИКТО для проекта\Новая папка\dom.jpg"/>
          <p:cNvPicPr/>
          <p:nvPr/>
        </p:nvPicPr>
        <p:blipFill>
          <a:blip r:embed="rId3"/>
          <a:stretch/>
        </p:blipFill>
        <p:spPr>
          <a:xfrm>
            <a:off x="2643120" y="3286080"/>
            <a:ext cx="381024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ЮЛЕНЬКА\дрУЧЕБА\4 КУРС\ИИКТО для проекта\Новая папка\uchenik.jpg"/>
          <p:cNvPicPr/>
          <p:nvPr/>
        </p:nvPicPr>
        <p:blipFill>
          <a:blip r:embed="rId4"/>
          <a:stretch/>
        </p:blipFill>
        <p:spPr>
          <a:xfrm>
            <a:off x="3071880" y="285840"/>
            <a:ext cx="3000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81bd"/>
                </a:solidFill>
                <a:latin typeface="Comic Sans MS"/>
              </a:rPr>
              <a:t>Спасибо за внимание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3T17:46:47Z</dcterms:modified>
  <cp:revision>11</cp:revision>
  <dc:subject/>
  <dc:title>Веселый ТАНГРАМ</dc:title>
</cp:coreProperties>
</file>